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2E-F1B8-45EB-AA1A-776629E2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1B-223B-49E7-AC41-E89FF0FD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4A4-885F-499D-A6DC-7714B668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486-9715-428A-A952-9946AEDD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A012-3A3B-4819-80A7-3577FD6E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C212-C331-426B-A6E0-F583B88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94A9-CE4E-44A9-BDB8-4A438FFF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180-0EC5-4A11-82CE-F7F9080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F60-A082-4BF9-9E8D-10E3E1F7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1AD-B50C-451A-A0C3-8D947ADB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5D59-8954-4090-9E8B-E9BB859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F88-9A8B-41EF-ADC0-22BABCA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A450-E03E-4DA3-BC70-9D8C7DF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F4D-4F25-4F88-AAE4-F7FAE3A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36A9-0408-42A6-8D24-9158BD8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21E-4D69-412B-9630-0DFA9491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88D0-091E-45D8-A65D-793B4548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5CA-63B1-4BC5-BC3C-08064E7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827-5D06-4BDA-9E1E-D68D4365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50D-9FDA-48BE-9649-10BE499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DA3-A40D-44C4-8472-C2BBEAC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94E-D731-423E-A1F3-E10CEA7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002-F98D-42A9-815E-AFC6823D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0F6-BFE5-4D0C-8C5E-4755B85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F0E-1161-469A-98D5-62DE6F62A9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5181-DB12-4867-B35B-72C9CCE38B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So, if there are 4 people in one family 50 families eat 60000g(60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ctangle prism which has 0.2mfor width, 0.3m for length, 1mfor height which coast $34.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milies need 60000g for two weeks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gram is 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han 60000g is 60000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hich means 0.06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rom the calculation we tried we found that larger height makes more cheap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the volume of rectangular prism is width x length x height= 0.2x0.3x1=0.06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ast of the base volume is 1.2x1.3x0.02=0.0312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x640=$19.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ast of the surface area is (0.2x0.3)+2(0.2x1)+2(0.3x1)=1.06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x14=$14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otal coast=$34.8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Preferred Customer</cp:lastModifiedBy>
  <dcterms:modified xsi:type="dcterms:W3CDTF">2008-11-30T23:45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